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9A3F-BA8F-446E-BF86-E1DDDAE5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into equipos of r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AD5A-6DC0-4F82-955D-037B62C7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conj. Gustar like a reg. ar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 show who is affected by the pleasing/ receives the action (the pleas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to me gustas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FCF8-5144-458B-A817-4E422945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with your partner to find the dif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star doesn’t agree with the person receiving the action, but with the object/ person who does the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58C7-2F76-4E88-9141-2F713772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oar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AFA-D5AF-4053-9F62-47CDEF8D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glish we use intonation to exaggerate something or to emphasize something. In Spanish they use a mi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gusta jugar a basquetbol pero a ti te gusta jugar a fut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257-A778-42E6-81AB-283C7990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54D-B8F3-420E-AAA3-F072E6CC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C22-B59C-4B25-B853-E4353FE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BD9-D0DF-46F2-9680-8CD8E498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A14-D649-412C-9DA8-50B6F184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076-E477-43DD-B21F-F0A766AE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7324-CC8C-4A42-8814-71C7F55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5E5-91AF-402A-9C98-3B76C8EF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9C5D-A612-4ABD-BB3A-518512D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FA5-FA35-4A35-8E2B-BD49ED59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85A-6048-45B6-9D92-6380BBB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597-5ADF-4548-A504-98E55A2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ED1-03AD-4BFF-8A38-C5ABD68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472-2952-4D85-B02B-3BB2D02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C9B-A193-40DA-BADE-2CD3618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EB8C-7040-4D96-B421-C0A80C0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D60-DF7F-47D0-92B9-F0C02913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E6E2-54A5-441A-9A1E-0909F22C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EE703-9EA0-4295-BD78-1796D83A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9D5C5-E5D9-4976-ACF6-A6B445EF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C27E6-3011-438E-A1A0-7F6127BF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8FC13-4635-46C7-BD0D-FE206FE1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58FC4-47E8-48BB-8B49-E398827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D3E-BA33-4E62-AB48-BE22DAB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F9B20-97A4-409F-9C56-AAA29205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FA0C7-C301-4357-9565-99A2362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7161D-2E4F-45CA-B37D-5FD1F73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490ED-227E-46A6-9034-8637EE1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2B176-F188-4E3E-9392-778AAF3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9364C-046B-44D8-AF61-7273AACD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64449-1C09-4202-817A-60780749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00DE7-28A1-4D54-93B2-0133AC9F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9493B-5DE2-4211-824B-450E4CAD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6BD49-ED1E-4E31-9820-A7CF579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5E4-A02E-4A0B-B052-2BA0CCE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27CE1-F9AA-4C93-8198-63F3E5A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E934F-9B65-40D6-B88C-3292B3A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24F96-605B-4A89-9688-28ABCE0A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9AC54-35AA-444E-8870-77BCFE6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F7B93-AB81-40EE-81DE-C7D6099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0A5CE-22EC-4C60-8860-995E1C3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1AC9B-DD37-4174-A7BC-AB16B800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A870E-20AD-49D2-A64D-7CD86868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9CAE5-27DA-4210-93CF-57C18DA2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F6669-439D-45C2-B836-63DE24C3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4BA-A3FE-42D7-BB05-BA3B935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49CC4-9C34-4BD1-A1B6-99DA7D4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35F3A-2AE7-49B1-8CB2-B10E2C4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A3425-17D3-4F2A-8FE8-422895D0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D2C47-B9EB-493F-96AB-8ABE6AD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EFE3C-020B-405E-A20F-9DAEE66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1A084-F278-400F-A1F6-85F68B7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04569-D6AF-4F88-A72B-06516441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23373-BDB2-43B7-B8EA-74EFCAC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480A1-9513-47DE-AFFE-3269898B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D8DA9-2CFB-4FBA-A247-63871599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DBE-A73D-4335-A189-2C9EC2E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BC648-D956-4669-8F9E-1344CA6F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9690-FA85-43B2-B896-2E8C7243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41D4-7FBC-42DD-B325-CE9A4F2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2263-1230-4821-B911-057FF26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6349-C625-40E5-8FBD-1557361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9327-CCAC-47D4-88E2-1A74BAA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86FD-6FE7-4E2E-84ED-F58965B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AE04-227A-4EFF-9A2A-F39C930D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38DA-45BE-495B-A998-94CA2AA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771F-BCD8-4AA3-BBE8-AE2E72F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FBC-3995-4E4E-892D-91C2649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A4810-BF8F-4FA6-A733-44A6E593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2E4F-6BFF-478E-B6F2-C2874BC3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3D55-312E-47A5-8D94-9F468D22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0F1D0-3068-412A-A24C-974B7959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2F57A-034A-4378-903E-F7F2DEAD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AEFD8-B7E3-4F62-A119-B969A88D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84EF7-09DC-42A1-836C-ABC343E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A462E-143C-4F13-9145-EFAD976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DA002-9936-4DE9-B358-89CB430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C2252-21A9-40E5-A87B-2A8C3F7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BDB-81E0-4BD8-A886-C945AB0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88A5D-1F53-41A2-A037-484E5D4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C94C2-0D24-4DE7-B723-C7C0D7E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5AC39-A35E-4533-BF65-93A43A3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1FFD3-1F57-43C3-A3D0-E56B2B6D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16257-4302-4EE1-87CD-26F9406E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9BA7-B6E0-4844-99CE-64C23F9D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0F55-48E9-4B2A-A8FE-45AF2021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305A1-E56B-4766-8254-C12A7D6A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BFB3-8E65-440C-A0DC-17EEF7F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20C0-3543-4DA9-9BE7-8306C82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FD5-5982-41D5-9F28-88DD3C6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4D2F-8808-4D94-9CCD-19D90D02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A3CD-FA28-4E5A-93F3-BC27DFA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43ECD-DFDF-4F82-AD88-FBD9662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445E-ECE2-48A8-809F-EE15599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6C3B-0D98-419F-B221-ACD067A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C9B4-B0B4-46AA-B0B4-1132A33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35DA-D129-4EAB-A9BA-09E37EF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67D-8B12-467A-BA92-3772599C339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B58-97EC-4654-BD69-9EBF2EF7861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DEA-0518-419C-AB65-0AE91CD282E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1DC-5FAF-4DB5-8590-91BF7BE9A4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8AB-95B8-4B02-BAD4-9B3E2A2C2DF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B3A-9D23-475D-AB83-C342BDBC3E8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E1D2-19A6-4098-BAA5-458FBA3CD7F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1CE6-9C38-4736-A605-7D99635ED6D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14479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75f55"/>
                </a:solidFill>
                <a:latin typeface="Tw Cen MT"/>
              </a:rPr>
              <a:t>GUSTAR</a:t>
            </a:r>
            <a:endParaRPr b="0" lang="en-US" sz="6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PRÁCTICA CON GUST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0574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stserv.buffalo.edu/cgi-bin/wa?A2=ind9801&amp;L=FLTEACH&amp;P=R58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sotr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9146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sotr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389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l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816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1907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SCRAMB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squiar A le Mario gusta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15000" cy="32032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estudiar te ti gusta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076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 a mi hablar por teléfono gusta.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8355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8379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sotros gusta hacer ejercicio nos a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0049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sta ir de compras a les ello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6576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st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04920" y="2514600"/>
          <a:ext cx="8610480" cy="32004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Yo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Nosotros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T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Él, ella, Ud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Ellos, ellas, Uds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6"/>
          <p:cNvSpPr/>
          <p:nvPr/>
        </p:nvSpPr>
        <p:spPr>
          <a:xfrm>
            <a:off x="2743200" y="266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274320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2743200" y="46483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7543800" y="25909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7696080" y="4800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s. a gusta jugar les.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708360" cy="2362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6828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753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¿Cuál es la diferencia entre 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“gusta” y “gustan”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09480" y="2362320"/>
          <a:ext cx="8153640" cy="335268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U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U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e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jugo de nar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depo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películas román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lase de españ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zap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mida ital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matemá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 don’t like spiders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3" descr="C:\Users\490teacher\AppData\Local\Microsoft\Windows\Temporary Internet Files\Content.IE5\1L130DFD\MP900430882[1].jpg"/>
          <p:cNvPicPr/>
          <p:nvPr/>
        </p:nvPicPr>
        <p:blipFill>
          <a:blip r:embed="rId1"/>
          <a:stretch/>
        </p:blipFill>
        <p:spPr>
          <a:xfrm>
            <a:off x="2666880" y="1600200"/>
            <a:ext cx="3397320" cy="40672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476520" y="5035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arañ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irls like flowers.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2" descr="C:\Users\490teacher\AppData\Local\Microsoft\Windows\Temporary Internet Files\Content.IE5\4SUZMEHK\MC900406430[1].wmf"/>
          <p:cNvPicPr/>
          <p:nvPr/>
        </p:nvPicPr>
        <p:blipFill>
          <a:blip r:embed="rId1"/>
          <a:stretch/>
        </p:blipFill>
        <p:spPr>
          <a:xfrm>
            <a:off x="3733920" y="1676520"/>
            <a:ext cx="2011320" cy="31334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3929040" y="50227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e likes doughnut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2" descr="C:\Users\490teacher\AppData\Local\Microsoft\Windows\Temporary Internet Files\Content.IE5\1L130DFD\MP900424381[1].jpg"/>
          <p:cNvPicPr/>
          <p:nvPr/>
        </p:nvPicPr>
        <p:blipFill>
          <a:blip r:embed="rId1"/>
          <a:stretch/>
        </p:blipFill>
        <p:spPr>
          <a:xfrm>
            <a:off x="19051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259092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rosqui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 don’t like test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2" descr="C:\Users\490teacher\AppData\Local\Microsoft\Windows\Temporary Internet Files\Content.IE5\FRNEBY26\MP900439390[1].jpg"/>
          <p:cNvPicPr/>
          <p:nvPr/>
        </p:nvPicPr>
        <p:blipFill>
          <a:blip r:embed="rId1"/>
          <a:stretch/>
        </p:blipFill>
        <p:spPr>
          <a:xfrm>
            <a:off x="1219320" y="1600200"/>
            <a:ext cx="6400800" cy="42735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3200400" y="6095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Arial"/>
              </a:rPr>
              <a:t>Los exáme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3654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a enfás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3520" y="2438280"/>
          <a:ext cx="8305560" cy="312444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mi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nosotros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ti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él, ella, Ud.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ellos, ellas, Uds.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¿Cómo se dic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Y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433600" y="1981080"/>
            <a:ext cx="4740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ú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952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É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3624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357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0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8:12:45Z</dcterms:created>
  <dc:creator>Amanda</dc:creator>
  <dc:description/>
  <dc:language>en-US</dc:language>
  <cp:lastModifiedBy>490teacher</cp:lastModifiedBy>
  <dcterms:modified xsi:type="dcterms:W3CDTF">2012-01-23T07:39:27Z</dcterms:modified>
  <cp:revision>37</cp:revision>
  <dc:subject/>
  <dc:title>GUSTAR</dc:title>
</cp:coreProperties>
</file>